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380-170C-43CF-B557-880BDC5A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8B1-F1F9-42F4-A8DF-C609960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656-A062-4679-B13D-298B4B06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1E15-6116-499A-B549-1B72CCA6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408-51AC-437E-B025-B06C81CA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A75-53EF-4D7C-A6EA-E9639429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9AF-56D4-497F-9C11-5327FABB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6D1-5059-4B34-8D07-60E7EB5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C86-0D25-4C6A-86CA-1449CB4A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BE4-D51B-41ED-8C34-0CDA6E5F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B8B-B662-4A5D-8CFC-01CBE59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880-B9CD-4549-A600-B24A6D1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D6C-FDA0-4C52-A81D-32715A8E2E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5373720"/>
            <a:ext cx="3889440" cy="719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aunt and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un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720" y="5445000"/>
            <a:ext cx="8137440" cy="1006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y have two children . The boy's name is M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girl's name is 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8720" y="5518080"/>
            <a:ext cx="7056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aunt and uncle like to go for a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835164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cousins like to jump-on-uncle. They have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2360" y="5373720"/>
            <a:ext cx="85694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family likes to have fun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like to have dinner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8720" y="5518080"/>
            <a:ext cx="741672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like to watch a film. We are a big, happy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addy's mother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Maddy's father works in a par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Maddy's brother likes to sit and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Maddy's cousins like to play with their                                      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33280"/>
            <a:ext cx="44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ad and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17733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2349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8720" y="292572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720" y="35020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9080" y="1844640"/>
            <a:ext cx="4464000" cy="1800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llo aga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445000"/>
            <a:ext cx="71294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have a brother and a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18920" y="32385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☺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581360"/>
            <a:ext cx="1800360" cy="201636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830880 h 2016360"/>
              <a:gd name="textAreaBottom" fmla="*/ 1185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5445000"/>
            <a:ext cx="684072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father works , to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1:58:58Z</dcterms:created>
  <dc:creator/>
  <dc:description/>
  <dc:language>en-US</dc:language>
  <cp:lastModifiedBy>China</cp:lastModifiedBy>
  <dcterms:modified xsi:type="dcterms:W3CDTF">2018-08-17T04:19:1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